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2F4-AEC0-4AE9-A782-4928D64B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EF7-A977-4E0B-B226-7DFC702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277-B6B1-45FE-A866-86A77288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48B-F2A2-4C11-9CCA-98627B9F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318-97FF-46F2-A3BE-5346B28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A63-ED56-49F2-B3BC-A1A46F45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2D0-EC3E-400C-B16C-60DE86FD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673-4660-4699-A1E2-7992D309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873-772D-44C3-A905-BEC9979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36C-7C0F-4BDE-960B-2681B54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20B-EBCD-4E46-A452-CFEE2E1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A7E-EC15-4454-A534-57FE748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E18-319B-407F-BDDE-FFA4ABCBBF3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applause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applause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POMOGNITE SVOJIM ZNANJEM JEDNOM  OD  MIKIJA  DA  PRVI DONESE CVIJEĆE  MI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857760"/>
            <a:ext cx="67723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Chiller"/>
              </a:rPr>
              <a:t>UTRKA  MIKIJ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4" descr="cn22.gif"/>
          <p:cNvPicPr/>
          <p:nvPr/>
        </p:nvPicPr>
        <p:blipFill>
          <a:blip r:embed="rId1"/>
          <a:stretch/>
        </p:blipFill>
        <p:spPr>
          <a:xfrm>
            <a:off x="0" y="3786120"/>
            <a:ext cx="2214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ka 13" descr="clipminniecute3.gif"/>
          <p:cNvPicPr/>
          <p:nvPr/>
        </p:nvPicPr>
        <p:blipFill>
          <a:blip r:embed="rId1"/>
          <a:stretch/>
        </p:blipFill>
        <p:spPr>
          <a:xfrm>
            <a:off x="4214880" y="507204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Srce 17"/>
          <p:cNvSpPr/>
          <p:nvPr/>
        </p:nvSpPr>
        <p:spPr>
          <a:xfrm>
            <a:off x="500040" y="2857680"/>
            <a:ext cx="28584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rce 18"/>
          <p:cNvSpPr/>
          <p:nvPr/>
        </p:nvSpPr>
        <p:spPr>
          <a:xfrm>
            <a:off x="642960" y="185724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rce 19"/>
          <p:cNvSpPr/>
          <p:nvPr/>
        </p:nvSpPr>
        <p:spPr>
          <a:xfrm>
            <a:off x="1071720" y="4071960"/>
            <a:ext cx="28548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rce 21"/>
          <p:cNvSpPr/>
          <p:nvPr/>
        </p:nvSpPr>
        <p:spPr>
          <a:xfrm>
            <a:off x="1071720" y="5000760"/>
            <a:ext cx="28548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rce 24"/>
          <p:cNvSpPr/>
          <p:nvPr/>
        </p:nvSpPr>
        <p:spPr>
          <a:xfrm>
            <a:off x="2500200" y="185724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rce 31"/>
          <p:cNvSpPr/>
          <p:nvPr/>
        </p:nvSpPr>
        <p:spPr>
          <a:xfrm>
            <a:off x="3571920" y="585792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rce 32"/>
          <p:cNvSpPr/>
          <p:nvPr/>
        </p:nvSpPr>
        <p:spPr>
          <a:xfrm>
            <a:off x="2214720" y="5786280"/>
            <a:ext cx="28548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rce 33"/>
          <p:cNvSpPr/>
          <p:nvPr/>
        </p:nvSpPr>
        <p:spPr>
          <a:xfrm>
            <a:off x="2000160" y="492912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rce 34"/>
          <p:cNvSpPr/>
          <p:nvPr/>
        </p:nvSpPr>
        <p:spPr>
          <a:xfrm>
            <a:off x="2000160" y="242892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rce 35"/>
          <p:cNvSpPr/>
          <p:nvPr/>
        </p:nvSpPr>
        <p:spPr>
          <a:xfrm>
            <a:off x="2928960" y="250020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rce 36"/>
          <p:cNvSpPr/>
          <p:nvPr/>
        </p:nvSpPr>
        <p:spPr>
          <a:xfrm>
            <a:off x="2071800" y="3286080"/>
            <a:ext cx="28548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rce 37"/>
          <p:cNvSpPr/>
          <p:nvPr/>
        </p:nvSpPr>
        <p:spPr>
          <a:xfrm>
            <a:off x="3000240" y="392904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rce 38"/>
          <p:cNvSpPr/>
          <p:nvPr/>
        </p:nvSpPr>
        <p:spPr>
          <a:xfrm>
            <a:off x="3000240" y="471492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rce 39"/>
          <p:cNvSpPr/>
          <p:nvPr/>
        </p:nvSpPr>
        <p:spPr>
          <a:xfrm>
            <a:off x="3786120" y="5143680"/>
            <a:ext cx="285840" cy="28548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rce 40"/>
          <p:cNvSpPr/>
          <p:nvPr/>
        </p:nvSpPr>
        <p:spPr>
          <a:xfrm>
            <a:off x="4500720" y="178596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rce 41"/>
          <p:cNvSpPr/>
          <p:nvPr/>
        </p:nvSpPr>
        <p:spPr>
          <a:xfrm>
            <a:off x="4000680" y="228600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rce 42"/>
          <p:cNvSpPr/>
          <p:nvPr/>
        </p:nvSpPr>
        <p:spPr>
          <a:xfrm>
            <a:off x="4857840" y="257184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rce 43"/>
          <p:cNvSpPr/>
          <p:nvPr/>
        </p:nvSpPr>
        <p:spPr>
          <a:xfrm>
            <a:off x="3857760" y="292896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rce 44"/>
          <p:cNvSpPr/>
          <p:nvPr/>
        </p:nvSpPr>
        <p:spPr>
          <a:xfrm>
            <a:off x="4786200" y="350028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rce 45"/>
          <p:cNvSpPr/>
          <p:nvPr/>
        </p:nvSpPr>
        <p:spPr>
          <a:xfrm>
            <a:off x="4071960" y="3857760"/>
            <a:ext cx="285840" cy="28548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rce 46"/>
          <p:cNvSpPr/>
          <p:nvPr/>
        </p:nvSpPr>
        <p:spPr>
          <a:xfrm>
            <a:off x="4286160" y="464328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rce 47"/>
          <p:cNvSpPr/>
          <p:nvPr/>
        </p:nvSpPr>
        <p:spPr>
          <a:xfrm>
            <a:off x="6572160" y="185724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rce 48"/>
          <p:cNvSpPr/>
          <p:nvPr/>
        </p:nvSpPr>
        <p:spPr>
          <a:xfrm>
            <a:off x="6072120" y="2357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rce 49"/>
          <p:cNvSpPr/>
          <p:nvPr/>
        </p:nvSpPr>
        <p:spPr>
          <a:xfrm>
            <a:off x="6858000" y="314316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rce 50"/>
          <p:cNvSpPr/>
          <p:nvPr/>
        </p:nvSpPr>
        <p:spPr>
          <a:xfrm>
            <a:off x="5929200" y="3500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rce 51"/>
          <p:cNvSpPr/>
          <p:nvPr/>
        </p:nvSpPr>
        <p:spPr>
          <a:xfrm>
            <a:off x="6572160" y="42148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rce 52"/>
          <p:cNvSpPr/>
          <p:nvPr/>
        </p:nvSpPr>
        <p:spPr>
          <a:xfrm>
            <a:off x="5929200" y="4643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rce 53"/>
          <p:cNvSpPr/>
          <p:nvPr/>
        </p:nvSpPr>
        <p:spPr>
          <a:xfrm>
            <a:off x="5286240" y="507204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rce 54"/>
          <p:cNvSpPr/>
          <p:nvPr/>
        </p:nvSpPr>
        <p:spPr>
          <a:xfrm>
            <a:off x="8215200" y="192888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rce 55"/>
          <p:cNvSpPr/>
          <p:nvPr/>
        </p:nvSpPr>
        <p:spPr>
          <a:xfrm>
            <a:off x="8215200" y="278604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rce 56"/>
          <p:cNvSpPr/>
          <p:nvPr/>
        </p:nvSpPr>
        <p:spPr>
          <a:xfrm>
            <a:off x="7643880" y="364320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rce 57"/>
          <p:cNvSpPr/>
          <p:nvPr/>
        </p:nvSpPr>
        <p:spPr>
          <a:xfrm>
            <a:off x="8215200" y="464328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rce 58"/>
          <p:cNvSpPr/>
          <p:nvPr/>
        </p:nvSpPr>
        <p:spPr>
          <a:xfrm>
            <a:off x="7215120" y="5000760"/>
            <a:ext cx="285840" cy="28548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rce 59"/>
          <p:cNvSpPr/>
          <p:nvPr/>
        </p:nvSpPr>
        <p:spPr>
          <a:xfrm>
            <a:off x="6357960" y="571500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rce 60"/>
          <p:cNvSpPr/>
          <p:nvPr/>
        </p:nvSpPr>
        <p:spPr>
          <a:xfrm>
            <a:off x="5286240" y="585792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nce 63"/>
          <p:cNvSpPr/>
          <p:nvPr/>
        </p:nvSpPr>
        <p:spPr>
          <a:xfrm>
            <a:off x="21420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unce 64"/>
          <p:cNvSpPr/>
          <p:nvPr/>
        </p:nvSpPr>
        <p:spPr>
          <a:xfrm>
            <a:off x="8286840" y="6072120"/>
            <a:ext cx="571320" cy="571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unce 65"/>
          <p:cNvSpPr/>
          <p:nvPr/>
        </p:nvSpPr>
        <p:spPr>
          <a:xfrm>
            <a:off x="735804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unce 66"/>
          <p:cNvSpPr/>
          <p:nvPr/>
        </p:nvSpPr>
        <p:spPr>
          <a:xfrm>
            <a:off x="121428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nce 67"/>
          <p:cNvSpPr/>
          <p:nvPr/>
        </p:nvSpPr>
        <p:spPr>
          <a:xfrm>
            <a:off x="2571840" y="6072120"/>
            <a:ext cx="571320" cy="5716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avokutnik 74"/>
          <p:cNvSpPr/>
          <p:nvPr/>
        </p:nvSpPr>
        <p:spPr>
          <a:xfrm>
            <a:off x="285840" y="1357200"/>
            <a:ext cx="857160" cy="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ravokutnik 75"/>
          <p:cNvSpPr/>
          <p:nvPr/>
        </p:nvSpPr>
        <p:spPr>
          <a:xfrm>
            <a:off x="2214720" y="1428840"/>
            <a:ext cx="857160" cy="71280"/>
          </a:xfrm>
          <a:prstGeom prst="rect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76"/>
          <p:cNvSpPr/>
          <p:nvPr/>
        </p:nvSpPr>
        <p:spPr>
          <a:xfrm>
            <a:off x="4071960" y="1428840"/>
            <a:ext cx="857160" cy="7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ravokutnik 77"/>
          <p:cNvSpPr/>
          <p:nvPr/>
        </p:nvSpPr>
        <p:spPr>
          <a:xfrm>
            <a:off x="6000840" y="1357200"/>
            <a:ext cx="857160" cy="7164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avokutnik 78"/>
          <p:cNvSpPr/>
          <p:nvPr/>
        </p:nvSpPr>
        <p:spPr>
          <a:xfrm>
            <a:off x="7786800" y="1428840"/>
            <a:ext cx="85716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lika 8" descr="crveno.jpg"/>
          <p:cNvPicPr/>
          <p:nvPr/>
        </p:nvPicPr>
        <p:blipFill>
          <a:blip r:embed="rId2"/>
          <a:stretch/>
        </p:blipFill>
        <p:spPr>
          <a:xfrm>
            <a:off x="281160" y="208080"/>
            <a:ext cx="1017360" cy="1157040"/>
          </a:xfrm>
          <a:prstGeom prst="rect">
            <a:avLst/>
          </a:prstGeom>
          <a:ln w="0">
            <a:noFill/>
          </a:ln>
        </p:spPr>
      </p:pic>
      <p:pic>
        <p:nvPicPr>
          <p:cNvPr id="91" name="Slika 11" descr="roza.jpg"/>
          <p:cNvPicPr/>
          <p:nvPr/>
        </p:nvPicPr>
        <p:blipFill>
          <a:blip r:embed="rId3"/>
          <a:stretch/>
        </p:blipFill>
        <p:spPr>
          <a:xfrm>
            <a:off x="2139840" y="20808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Slika 9" descr="cn22.gif"/>
          <p:cNvPicPr/>
          <p:nvPr/>
        </p:nvPicPr>
        <p:blipFill>
          <a:blip r:embed="rId4"/>
          <a:stretch/>
        </p:blipFill>
        <p:spPr>
          <a:xfrm>
            <a:off x="3992400" y="133200"/>
            <a:ext cx="1146240" cy="1298880"/>
          </a:xfrm>
          <a:prstGeom prst="rect">
            <a:avLst/>
          </a:prstGeom>
          <a:ln w="0">
            <a:noFill/>
          </a:ln>
        </p:spPr>
      </p:pic>
      <p:pic>
        <p:nvPicPr>
          <p:cNvPr id="93" name="Slika 10" descr="plavo.jpg"/>
          <p:cNvPicPr/>
          <p:nvPr/>
        </p:nvPicPr>
        <p:blipFill>
          <a:blip r:embed="rId5"/>
          <a:stretch/>
        </p:blipFill>
        <p:spPr>
          <a:xfrm>
            <a:off x="5924520" y="133200"/>
            <a:ext cx="1079640" cy="1231920"/>
          </a:xfrm>
          <a:prstGeom prst="rect">
            <a:avLst/>
          </a:prstGeom>
          <a:ln w="0">
            <a:noFill/>
          </a:ln>
        </p:spPr>
      </p:pic>
      <p:pic>
        <p:nvPicPr>
          <p:cNvPr id="94" name="Slika 12" descr="žuto.jpg"/>
          <p:cNvPicPr/>
          <p:nvPr/>
        </p:nvPicPr>
        <p:blipFill>
          <a:blip r:embed="rId6"/>
          <a:stretch/>
        </p:blipFill>
        <p:spPr>
          <a:xfrm>
            <a:off x="7711920" y="208080"/>
            <a:ext cx="1078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2.22222E-006 1.48148E-006 L 2.22222E-006 0.11551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2.22222E-006 0.11551 L -0.0158 0.34653 E">
                                      <p:cBhvr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158 0.34676 L 0.05503 0.49375 E">
                                      <p:cBhvr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5503 0.49375 L 0.05503 0.64074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0.05504 0.64074 L 0.14948 0.61968 E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.14948 0.61968 L 0.16528 0.73518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16528 0.73519 L 0.31146 0.76343 E">
                                      <p:cBhvr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5.55556E-006 -1.48148E-006 L 0.00781 0.12615 E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1.94444E-006 0.12593 L -0.05504 0.24144 E">
                                      <p:cBhvr>
                                        <p:cTn id="3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5504 0.24144 L 0.03941 0.2625 E">
                                      <p:cBhvr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03941 0.2625 L -0.05504 0.37801 E">
                                      <p:cBhvr>
                                        <p:cTn id="4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0.05504 0.37801 L 0.04722 0.47245 E">
                                      <p:cBhvr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4722 0.47245 L 0.0552 0.58796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0.0552 0.58796 L 0.14184 0.66134 E">
                                      <p:cBhvr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4.44444E-006 -3.33333E-006 L 0.0243 0.14398 E">
                                      <p:cBhvr>
                                        <p:cTn id="6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.0243 0.14398 L -0.04653 0.23843 E">
                                      <p:cBhvr>
                                        <p:cTn id="6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0.04653 0.23843 L 0.04791 0.26991 E">
                                      <p:cBhvr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4791 0.26991 L -0.06233 0.33287 E">
                                      <p:cBhvr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0.06233 0.33287 L 0.0559 0.42732 E">
                                      <p:cBhvr>
                                        <p:cTn id="8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.0559 0.42732 L -0.03854 0.47986 E">
                                      <p:cBhvr>
                                        <p:cTn id="8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Motion origin="layout" path="M -0.03855 0.47986 L -0.00712 0.58496 E">
                                      <p:cBhvr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3.33333E-006 -2.96296E-006 L 0.03159 0.13658 E">
                                      <p:cBhvr>
                                        <p:cTn id="9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03159 0.13658 L -0.02361 0.24167 E">
                                      <p:cBhvr>
                                        <p:cTn id="9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0.02361 0.24167 L 0.06302 0.34676 E">
                                      <p:cBhvr>
                                        <p:cTn id="10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0.06302 0.34676 L -0.0552 0.42014 E">
                                      <p:cBhvr>
                                        <p:cTn id="10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0.05521 0.42014 L 0.03924 0.53565 E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0.03923 0.53564 L -0.0316 0.59861 E">
                                      <p:cBhvr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animMotion origin="layout" path="M -0.0316 0.59861 L -0.11042 0.65116 E">
                                      <p:cBhvr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3.33333E-006 -4.44444E-006 L 0.02361 0.14699 E">
                                      <p:cBhvr>
                                        <p:cTn id="12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0.02361 0.14698 L 0.00799 0.33587 E"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0.00799 0.33587 L -0.05503 0.46203 E">
                                      <p:cBhvr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-0.05503 0.46204 L 0.02361 0.58796 E">
                                      <p:cBhvr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02361 0.58796 L -0.08663 0.61944 E">
                                      <p:cBhvr>
                                        <p:cTn id="13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Motion origin="layout" path="M -0.08663 0.61945 L -0.19687 0.73495 E">
                                      <p:cBhvr>
                                        <p:cTn id="14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Motion origin="layout" path="M -0.19687 0.73495 L -0.31493 0.76643 E">
                                      <p:cBhvr>
                                        <p:cTn id="14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ravokutnik 1"/>
          <p:cNvSpPr/>
          <p:nvPr/>
        </p:nvSpPr>
        <p:spPr>
          <a:xfrm>
            <a:off x="1071720" y="1609560"/>
            <a:ext cx="66434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 u 5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7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cvijet odgovarajuće  boje  na dnu  slajda , kako bi se njihov Miki pomaknuo od srca da srca. U slučaju netočnog rješenja ostaju na mjestu i čekaju drugi k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edam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niOkvir 2"/>
          <p:cNvSpPr/>
          <p:nvPr/>
        </p:nvSpPr>
        <p:spPr>
          <a:xfrm>
            <a:off x="1428840" y="535788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pt izradila Dubravka Petković, OŠ Fažana , 10.veljače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snja</cp:lastModifiedBy>
  <dcterms:modified xsi:type="dcterms:W3CDTF">2010-03-08T16:15:48Z</dcterms:modified>
  <cp:revision>24</cp:revision>
  <dc:subject/>
  <dc:title>POMOGNITE SVOJIM ZNANJEM JEDNOM  MIKIJU DA DOĐE DO MINI</dc:title>
</cp:coreProperties>
</file>